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0B0D8-D95C-4729-BAD4-29FACD00B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DF22-CC10-419C-B8DD-6CFBAFE1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48DC4-F6F9-42D2-9015-1B4A6394D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F9F9D-9E6A-41E5-B7B1-7DF62CACD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072D6-3ACE-4FA7-9FB3-8E093CA51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6FFF3-9B8D-4CE1-A998-1E5623C10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DEB8-AD9A-445C-A9EA-C626C456A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369B8-ED6C-4634-9659-90428AEF8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730AB-9905-43CE-B361-156A6E046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284D-9591-4921-BE44-D096DE867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7FC8D-3100-4DCB-A6E5-55DC324DA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617CD-B80C-4D16-BEBB-616E6ACDD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A7B3-8138-4373-95AE-1E454A3C36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31920"/>
            <a:ext cx="777240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Fractions</a:t>
            </a:r>
            <a:endParaRPr b="0" lang="en-US" sz="4000" spc="-1" strike="noStrike">
              <a:solidFill>
                <a:srgbClr val="000000"/>
              </a:solidFill>
              <a:latin typeface="Arial"/>
            </a:endParaRPr>
          </a:p>
        </p:txBody>
      </p:sp>
      <p:sp>
        <p:nvSpPr>
          <p:cNvPr id="42" name="PlaceHolder 2"/>
          <p:cNvSpPr>
            <a:spLocks noGrp="1"/>
          </p:cNvSpPr>
          <p:nvPr>
            <p:ph/>
          </p:nvPr>
        </p:nvSpPr>
        <p:spPr>
          <a:xfrm>
            <a:off x="560160" y="912960"/>
            <a:ext cx="3809880" cy="285408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Green Group</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Use Cuisinaire rods or fraction circles to model simple fraction addition problems.  Begin with common denominators and work up to denominators with common factors such as 3 and 6.  </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Explain the pitfalls and hurrahs of adding fractions by making a picture book.</a:t>
            </a:r>
            <a:endParaRPr b="0" lang="en-US" sz="1800" spc="-1" strike="noStrike">
              <a:solidFill>
                <a:srgbClr val="000000"/>
              </a:solidFill>
              <a:latin typeface="Arial"/>
            </a:endParaRPr>
          </a:p>
        </p:txBody>
      </p:sp>
      <p:sp>
        <p:nvSpPr>
          <p:cNvPr id="43" name="PlaceHolder 3"/>
          <p:cNvSpPr>
            <a:spLocks noGrp="1"/>
          </p:cNvSpPr>
          <p:nvPr>
            <p:ph/>
          </p:nvPr>
        </p:nvSpPr>
        <p:spPr>
          <a:xfrm>
            <a:off x="4647960" y="1701720"/>
            <a:ext cx="3809880" cy="4394160"/>
          </a:xfrm>
          <a:prstGeom prst="rect">
            <a:avLst/>
          </a:prstGeom>
          <a:no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ue Group</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anipulatives such as Cuisinaire rods and fraction circles will be available as a resource for the group.  Students use factor trees and lists of multiples to find common denominators.  Using this approach, pairs and triplets of fractions are rewritten using common denominators.  End by adding several different problems of increasing challenge and length.</a:t>
            </a: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zie says that adding fractions is like a game: you just need to know the rules.  Write game instructions explaining the rules of adding fractions.</a:t>
            </a:r>
            <a:endParaRPr b="0" lang="en-US" sz="1800" spc="-1" strike="noStrike">
              <a:solidFill>
                <a:srgbClr val="000000"/>
              </a:solidFill>
              <a:latin typeface="Arial"/>
            </a:endParaRPr>
          </a:p>
        </p:txBody>
      </p:sp>
      <p:sp>
        <p:nvSpPr>
          <p:cNvPr id="44" name="Rectangle 7"/>
          <p:cNvSpPr/>
          <p:nvPr/>
        </p:nvSpPr>
        <p:spPr>
          <a:xfrm>
            <a:off x="979560" y="3836880"/>
            <a:ext cx="3809880" cy="272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569880" y="3614760"/>
            <a:ext cx="3809880" cy="310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Red Grou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Use Venn diagrams to model LCMs (least common multiple).  Explain how this process can be used to find common denominators.  Use the method on more challenging addition problem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rPr>
              <a:t>	</a:t>
            </a:r>
            <a:r>
              <a:rPr b="0" lang="en-US" sz="1800" spc="-1" strike="noStrike">
                <a:solidFill>
                  <a:srgbClr val="cc0000"/>
                </a:solidFill>
                <a:latin typeface="Times New Roman"/>
              </a:rPr>
              <a:t>Write a manual on how to add fractions.  It must include why a common denominator is needed, and at least three ways to find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40:36Z</dcterms:created>
  <dc:creator>CABELL BOE</dc:creator>
  <dc:description/>
  <dc:language>en-US</dc:language>
  <cp:lastModifiedBy>CABELL BOE</cp:lastModifiedBy>
  <dcterms:modified xsi:type="dcterms:W3CDTF">2009-06-01T15:40:41Z</dcterms:modified>
  <cp:revision>1</cp:revision>
  <dc:subject/>
  <dc:title>Adding Fractions</dc:title>
</cp:coreProperties>
</file>